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14D-58B3-4687-B7A0-BC98B4C2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479-B36C-433B-A87D-05B9214F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1F2-B3C1-4E00-9C2E-C42F13E3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705-3D8C-4092-A563-42366651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2C8-3607-4972-8CB1-6E9633BD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03D-7244-458D-9BF8-A38B5D81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F336-F0A4-4816-9C23-FBE7F9B6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D7F-A97B-43A2-95D9-E73CFB68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766-6C18-401E-813A-BDEA74E6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E13-C970-4747-8EF6-C9A712FA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3D7-689B-47E2-B487-D14965D2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465-353B-4FB2-9C29-240D1EE8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FCFB-B9D0-40CD-A4DF-9DC20BB396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736720" cy="367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26920" y="836640"/>
            <a:ext cx="489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习惯决定命运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 rot="483000">
            <a:off x="826560" y="3284280"/>
            <a:ext cx="4824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细节决定成败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80360" y="76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9457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45480" y="84240"/>
            <a:ext cx="508788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生发言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惯决定命运，细节决定成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学们，从今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起，你们已经迈进了初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你们来讲，走向战场的时间已经不到半年，那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半年以后的结果如何，你们想过没有，哪怕是一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间。同学们，对你们而言结果固然重要，更重要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过程，比过程更重要的是细节，那么，你们将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什么样的心态、习惯、情绪去填充你们学习、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每一个细节呢？心态决定一切，习惯决定命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绪决定发展。希望同学们保持积极、健康、乐观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亢奋的心态；保持良好的学习、生活和行为习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保持稳定的情绪，度过每一天、每一秒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42400" y="1413000"/>
            <a:ext cx="482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学们，在你走向成功，实现自己理想的道路上，有许许多多的细节决定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的成败。我真心的希望同学们要从如何做人、如何做事着眼，从自身的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细节入手，用心去感悟什么是爱国情、师生情、父母情、同学情；从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细节亲身去体验对物要珍惜，对事要尽力，对己要克制，对人要感恩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每一个细节自觉去践行靠严格自律成人，靠自主学习成才。在细节上保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己“时时有事做，事事有时做”，该干什么就干什么，干什么就干好什么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做好自己该做的事，一要用心，二要认真，三要坚持。学会学习、交往、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、娱乐和运动是你们自己的事，学会理解、尊重、宽容他人，懂礼貌、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礼节、晓礼仪，做文明人，讲文明话，做文明事是你们做人的准则。希望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们不要小看“一次值日、一次整理内务、一次迟到、一次随意出口伤人、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随手乱仍垃圾”，这些细节能折射一个人的素质高低，能反映一个人的文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度，这些细节能决定一个人的成败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   希望同学们把握、珍惜自身和身边的每一个细节，注重过程。把握今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每一分、每一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61280" y="-171360"/>
            <a:ext cx="47955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养成良好的行为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习惯决定命运，细节决定成败”。在一九八八年那次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界各国诺贝尔奖得主的巴黎聚会上。有人问一位诺贝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科学奖得主：“您在哪所大学、哪个实验室学到了您认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最主要的东西呢？”这位白发苍苍的老学者回答道：“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幼儿园。”“在幼儿园能学到什么东西呢？”“把自己的东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一半给小伙伴们，不是自己的东西不要，东西放整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吃饭前要洗手，做错事要表示道歉，午饭后休息，要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察周围的大自然……“他所提到，都属于行为养成习惯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教育范畴，都属于非智力因素。可见良好行为习惯的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成对一个人的成功影响是多么的大呀！苏霍姆林斯基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过：”如果作为道德素养的最重要的真理在少年时期没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成为习惯，那么，所造成的损失是永远无法弥补的。“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学时期是青少年生理、心理急剧发育、变化的重要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期，正是增长知识，接受良好道德品质和行为习惯养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教育的最佳时期。学生良好行为习惯的养成是形成良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班风的基础，是建设良好班级的保证。因此，在基础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育阶段，德育教育应以行为习惯养成教育为主。把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习惯的养成教育落实到实处。扎扎实实地抓好学生的养成教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05040" y="692280"/>
            <a:ext cx="52099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数与习惯哪个更重要？</a:t>
            </a:r>
            <a:br>
              <a:rPr sz="32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句话说得好：细节决定成败，习惯决定命运。分数的多少，成绩的好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是一时的体现，只能反映出某一阶段的学习状况；而学习习惯的好坏则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贯穿他们的整个学习过程甚至还会影响到以后的工作与生活。小学时的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强度相对较小，进入中学以后，学习难度加大了，作业量增多了，但是我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许多同学的学习行为并没有随之改变，没有形成良好的学习习惯，过分相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已的能力，以为可以像在小学一样轻松学好每门科目，同时还是对家长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期待（指望家长的帮助），对老师的有所期待（依赖老师的单独讲解）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不得已的情况下甚至对同学也产生了期待（可以抄袭现成的作业），因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出现了学习上的不均衡，成绩的起伏与波动。那些对学习有热情，求知欲强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态度积极，自我要求高的同学，成绩会越来越好，或者有明显进步；而那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盲目乐观、懒惰、怕吃苦、不能及时独立完成学习任务的同学，想把成绩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好显然就不可能了，即使天资聪明，基础较好的一些同学，也会出现成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滑坡，名次的退步；而且我们可以预见，如果在起始年级不能形成一个良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学习习惯，到了八九年级学科负担加重的情况下再来要求培养习惯，显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不可能。因此我希望每个同学在平时的学习中养成良好的行为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05:30:56Z</dcterms:created>
  <dc:creator>Administrators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4:21:37Z</dcterms:modified>
  <cp:revision>6</cp:revision>
  <dc:subject>主题班会课件(分28大类): http://shop62905894.taobao.com</dc:subject>
  <dc:title>主题班会课件(分28大类): http://shop62905894.taobao.com</dc:title>
</cp:coreProperties>
</file>